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C3DB-298F-4022-8F44-5EA2321E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B6D-6BE8-401E-B8A6-D36F2753E2C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22E-A668-49B9-A016-CDAFE5C9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78E-2D99-4457-AFEC-5FC93CFD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14B-E570-4C1B-9ED7-3909DE3C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A57-61F7-4D80-A357-8CFF1023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526-03FE-4AE0-A656-602B2EBA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0624-8DE2-415C-8237-64EC4E4A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3E52-47E4-43AA-A64C-C20CE3B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D7B6-7362-4846-8130-515EC6E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7406-3045-4A90-8CFE-FF50C08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817A-36B8-42F4-A4BC-DDA6E9AB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5795-4764-4E9B-8A3E-C22D4F7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FED-5464-48DC-8C0E-DD31263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BC49-04DD-4EF9-91CD-D4594DE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4769-73D6-47C0-B9D5-6572835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9732-E953-429F-9D72-0F4CF55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BCE-207F-4A34-9ABC-BD008838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2D8-9C25-4EA2-9740-198A632A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982-239F-41C0-A767-06E0262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70B-5A60-4584-A200-C15F742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2C0-67DA-4296-822E-8460172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F3B-6733-4A66-9663-9071110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31B-5D8B-46BB-BF8C-54BCF53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A54-56F8-4AD2-9D48-8357D44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550-1373-466E-AEA2-49BEB98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2EE5-10EF-43B0-8FC1-C9398181C54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26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1027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1028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1029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1030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103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103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7AD3-C83C-4C6B-9CE2-8802D6F93952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6560" y="16887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kull, Brain and Cranial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Picture 4" descr="Full2"/>
          <p:cNvPicPr/>
          <p:nvPr/>
        </p:nvPicPr>
        <p:blipFill>
          <a:blip r:embed="rId2"/>
          <a:stretch/>
        </p:blipFill>
        <p:spPr>
          <a:xfrm>
            <a:off x="228600" y="3603600"/>
            <a:ext cx="4606920" cy="306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1" name="Picture 6" descr="Brain Tattoo"/>
          <p:cNvPicPr/>
          <p:nvPr/>
        </p:nvPicPr>
        <p:blipFill>
          <a:blip r:embed="rId3"/>
          <a:stretch/>
        </p:blipFill>
        <p:spPr>
          <a:xfrm>
            <a:off x="5346720" y="3784680"/>
            <a:ext cx="2921040" cy="292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Ventric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8680" y="1863360"/>
            <a:ext cx="84582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xpansions of brain’s central cav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ined with Ependymal Cell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lled with CSF (cerebrospinal flui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entricles continuous w/each other + central canal of spinal cor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4" name="Picture 7" descr="brain-ventricles"/>
          <p:cNvPicPr/>
          <p:nvPr/>
        </p:nvPicPr>
        <p:blipFill>
          <a:blip r:embed="rId5"/>
          <a:stretch/>
        </p:blipFill>
        <p:spPr>
          <a:xfrm>
            <a:off x="1530360" y="3548160"/>
            <a:ext cx="4471920" cy="330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81000" y="0"/>
            <a:ext cx="416412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Ventricles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987120"/>
            <a:ext cx="4991040" cy="5870520"/>
          </a:xfrm>
          <a:prstGeom prst="rect">
            <a:avLst/>
          </a:prstGeom>
          <a:solidFill>
            <a:srgbClr val="ffffe9"/>
          </a:solidFill>
          <a:ln w="1908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Lateral Ventricles (#1+2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erebral Hemisphe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parated by Septum Pellucidu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Ventri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Interventricular Foramen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 connects to lateral ventricl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ourth Ventri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indbra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Cerebral Aqueduct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connects 3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and 4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ventricl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nnects to central canal of spinal cord &amp; medul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3 openings connect 4</a:t>
            </a:r>
            <a:r>
              <a:rPr b="0" lang="en-US" sz="20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to subarachnoid sp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2 lateral apertur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1 median apert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989680" y="4286160"/>
            <a:ext cx="33300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Picture 7" descr="brain-ventricles"/>
          <p:cNvPicPr/>
          <p:nvPr/>
        </p:nvPicPr>
        <p:blipFill>
          <a:blip r:embed="rId4"/>
          <a:stretch/>
        </p:blipFill>
        <p:spPr>
          <a:xfrm>
            <a:off x="5391000" y="1522440"/>
            <a:ext cx="3753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erebrospinal Flui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58520"/>
            <a:ext cx="4670280" cy="4235400"/>
          </a:xfrm>
          <a:prstGeom prst="rect">
            <a:avLst/>
          </a:prstGeom>
          <a:solidFill>
            <a:srgbClr val="ffffe9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iquid cushion for brain and spinal cor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Nourishes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emoves wast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ducts chemical signals between parts of CNS (e.g. hormone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rms as a filtrate of blood in choroid plexu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1" name="Picture 1038" descr="9240"/>
          <p:cNvPicPr/>
          <p:nvPr/>
        </p:nvPicPr>
        <p:blipFill>
          <a:blip r:embed="rId6"/>
          <a:stretch/>
        </p:blipFill>
        <p:spPr>
          <a:xfrm>
            <a:off x="4788000" y="2158920"/>
            <a:ext cx="380988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horoid Plexus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2106360"/>
            <a:ext cx="4128840" cy="419076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Choroid Plexuses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: groups of capillaries surrounded by ependymal cell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sodium, chloride ions, proteins, glucose, O</a:t>
            </a:r>
            <a:r>
              <a:rPr b="0" lang="en-US" sz="2800" spc="-1" strike="noStrike" baseline="-25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Picture 6" descr="choroid_plexus"/>
          <p:cNvPicPr/>
          <p:nvPr/>
        </p:nvPicPr>
        <p:blipFill>
          <a:blip r:embed="rId3"/>
          <a:stretch/>
        </p:blipFill>
        <p:spPr>
          <a:xfrm>
            <a:off x="4765680" y="2522520"/>
            <a:ext cx="3841920" cy="31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1320" y="507600"/>
            <a:ext cx="3291120" cy="833400"/>
          </a:xfrm>
          <a:prstGeom prst="rect">
            <a:avLst/>
          </a:prstGeom>
          <a:solidFill>
            <a:srgbClr val="ffffe9"/>
          </a:solidFill>
          <a:ln w="3816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low of CSF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5040" y="2421000"/>
            <a:ext cx="4638600" cy="361008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ormed in Choroid plexus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rough Ventricl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o Subarachnoid space &amp; central canal from 4</a:t>
            </a:r>
            <a:r>
              <a:rPr b="0" lang="en-US" sz="2800" spc="-1" strike="noStrike" baseline="30000">
                <a:solidFill>
                  <a:srgbClr val="00264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ventric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rough Arachnoid Villi into Superior Sagittal Sinu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o Internal Jugular Ve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4076280"/>
            <a:ext cx="38098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8" name="Picture 4109" descr="csf"/>
          <p:cNvPicPr/>
          <p:nvPr/>
        </p:nvPicPr>
        <p:blipFill>
          <a:blip r:embed="rId7"/>
          <a:stretch/>
        </p:blipFill>
        <p:spPr>
          <a:xfrm>
            <a:off x="0" y="2085840"/>
            <a:ext cx="4467240" cy="477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rganization of the 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28720" y="1557360"/>
            <a:ext cx="4714920" cy="4191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mposed of gray and white mat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fferent organization than in the spinal cor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rtex: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xternal sheets of gray matter in cerebrum &amp;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uclei: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ep masses of gray matter surrounded by white matt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1" name="Picture 4" descr="New Image"/>
          <p:cNvPicPr/>
          <p:nvPr/>
        </p:nvPicPr>
        <p:blipFill>
          <a:blip r:embed="rId3"/>
          <a:stretch/>
        </p:blipFill>
        <p:spPr>
          <a:xfrm>
            <a:off x="380880" y="1523880"/>
            <a:ext cx="4067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u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ecutive Suite” of nervous syste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lf-awareness, initiate + control voluntary movements, communicate, remember, understan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Gray matter, White matter, Basal gangli (nuclei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st superior regio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vers diencephalon + top of brain stem like mushroom ca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ny small grooves + deep fissure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Transver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separates cerebral hemisphere +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Longitudinal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separates right + left cerebral hemisphe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ulci – grooves on surfa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yri-ridges of brain tissue between sulci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al Hemisphe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4720" y="1904760"/>
            <a:ext cx="44989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ssures and Groov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ssures – deepes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ransverse cerebral fiss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eparates cerebral hemisphere from cerebellum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ongitudinal fissur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eparates R and L cerebral hemisphere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ulc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Grooves on surfac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yri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idges of brain tissue between the sulc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Picture 4" descr="New Image"/>
          <p:cNvPicPr/>
          <p:nvPr/>
        </p:nvPicPr>
        <p:blipFill>
          <a:blip r:embed="rId2"/>
          <a:stretch/>
        </p:blipFill>
        <p:spPr>
          <a:xfrm>
            <a:off x="762120" y="4495680"/>
            <a:ext cx="3124080" cy="179100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pic>
        <p:nvPicPr>
          <p:cNvPr id="157" name="Picture 5" descr="New Image"/>
          <p:cNvPicPr/>
          <p:nvPr/>
        </p:nvPicPr>
        <p:blipFill>
          <a:blip r:embed="rId3"/>
          <a:stretch/>
        </p:blipFill>
        <p:spPr>
          <a:xfrm>
            <a:off x="101520" y="2066760"/>
            <a:ext cx="2565360" cy="181944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pic>
        <p:nvPicPr>
          <p:cNvPr id="158" name="Picture 6" descr="New Image"/>
          <p:cNvPicPr/>
          <p:nvPr/>
        </p:nvPicPr>
        <p:blipFill>
          <a:blip r:embed="rId4"/>
          <a:stretch/>
        </p:blipFill>
        <p:spPr>
          <a:xfrm>
            <a:off x="2819520" y="1981080"/>
            <a:ext cx="2120760" cy="2000520"/>
          </a:xfrm>
          <a:prstGeom prst="rect">
            <a:avLst/>
          </a:prstGeom>
          <a:ln w="9360">
            <a:solidFill>
              <a:srgbClr val="00264c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4191120" y="2438280"/>
            <a:ext cx="76176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828800" y="3200400"/>
            <a:ext cx="83808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erebral Hemispheres: 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19760" y="1904760"/>
            <a:ext cx="4224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ach hemisphere divided into 5 lob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ron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arie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Occipit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Tempor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su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eated by deep sulc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unctional areas: motor, senso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ssociative areas: integra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3" name="Picture 11" descr="showimage"/>
          <p:cNvPicPr/>
          <p:nvPr/>
        </p:nvPicPr>
        <p:blipFill>
          <a:blip r:embed="rId5"/>
          <a:stretch/>
        </p:blipFill>
        <p:spPr>
          <a:xfrm>
            <a:off x="203040" y="2117880"/>
            <a:ext cx="4629240" cy="35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Diencephal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5257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urrounded by cerebral hemisphe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3 Paired Structu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Communicates sensory info of cerebral cortex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Hypo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gulates many body activit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motion, sleep, memory, et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ituitary Gland-hormon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pithalam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ineal Gland-hormon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6" name="Picture 7" descr="19236"/>
          <p:cNvPicPr/>
          <p:nvPr/>
        </p:nvPicPr>
        <p:blipFill>
          <a:blip r:embed="rId3"/>
          <a:stretch/>
        </p:blipFill>
        <p:spPr>
          <a:xfrm>
            <a:off x="203040" y="2514600"/>
            <a:ext cx="381024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7" name="Oval 8"/>
          <p:cNvSpPr/>
          <p:nvPr/>
        </p:nvSpPr>
        <p:spPr>
          <a:xfrm rot="19384800">
            <a:off x="1714680" y="3427200"/>
            <a:ext cx="1143000" cy="623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184480"/>
            <a:ext cx="73454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4 Part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erebr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iencephal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rain Stem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Pon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Midbrai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ray matter surrounded by White mat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7320" y="296640"/>
            <a:ext cx="2459160" cy="733320"/>
          </a:xfrm>
          <a:prstGeom prst="rect">
            <a:avLst/>
          </a:prstGeom>
          <a:noFill/>
          <a:ln w="5724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he Brai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14" descr="brain_3"/>
          <p:cNvPicPr/>
          <p:nvPr/>
        </p:nvPicPr>
        <p:blipFill>
          <a:blip r:embed="rId3"/>
          <a:stretch/>
        </p:blipFill>
        <p:spPr>
          <a:xfrm>
            <a:off x="3584520" y="1785960"/>
            <a:ext cx="4829400" cy="292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19236"/>
          <p:cNvPicPr/>
          <p:nvPr/>
        </p:nvPicPr>
        <p:blipFill>
          <a:blip r:embed="rId1"/>
          <a:stretch/>
        </p:blipFill>
        <p:spPr>
          <a:xfrm>
            <a:off x="2540160" y="3098880"/>
            <a:ext cx="3809880" cy="30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5840" y="0"/>
            <a:ext cx="2722320" cy="10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edulla Oblongata, Pons, Mid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assage of all signals between spinal cord and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4784400" y="3776760"/>
            <a:ext cx="2063880" cy="6332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834240" y="3478320"/>
            <a:ext cx="1317600" cy="459720"/>
          </a:xfrm>
          <a:prstGeom prst="rect">
            <a:avLst/>
          </a:prstGeom>
          <a:solidFill>
            <a:srgbClr val="ffffe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idbra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4933800" y="4735440"/>
            <a:ext cx="251460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378560" y="4761000"/>
            <a:ext cx="878040" cy="459720"/>
          </a:xfrm>
          <a:prstGeom prst="rect">
            <a:avLst/>
          </a:prstGeom>
          <a:solidFill>
            <a:srgbClr val="ffffe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o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495480" y="5832360"/>
            <a:ext cx="2478960" cy="459720"/>
          </a:xfrm>
          <a:prstGeom prst="rect">
            <a:avLst/>
          </a:prstGeom>
          <a:solidFill>
            <a:srgbClr val="ffffe9"/>
          </a:solidFill>
          <a:ln w="57240">
            <a:solidFill>
              <a:srgbClr val="78c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dulla oblonga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H="1" flipV="1">
            <a:off x="5117760" y="5003640"/>
            <a:ext cx="2577960" cy="851040"/>
          </a:xfrm>
          <a:prstGeom prst="line">
            <a:avLst/>
          </a:prstGeom>
          <a:ln w="38160">
            <a:solidFill>
              <a:srgbClr val="78c0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edulla Oblongat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gulates several basic physiological func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Heartbeat (rate and force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lood pressure (vasoconstriction/dilation of arterie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reathing (rate and depth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Others: speech, coughing, sneezing, salivation, swallowing, gagging, vomiting, sweati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ttachment of CN IX, X, XI, 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P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9600" y="1890720"/>
            <a:ext cx="8834400" cy="4191120"/>
          </a:xfrm>
          <a:prstGeom prst="rect">
            <a:avLst/>
          </a:prstGeom>
          <a:noFill/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ains many tracts carrying signals: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cerebrum to cerebellum &amp; medull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p to thalamu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tween right and left hemispheres of cerebellu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brainstem to cerebellu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ttachment of CN V, VI, VII, VI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rainstem: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id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rries signal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etween higher and lower brain cent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rom cerebellum to cerebral cortex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Visual and Auditory reflex cen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matic motor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ttachment for CN III, IV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19236"/>
          <p:cNvPicPr/>
          <p:nvPr/>
        </p:nvPicPr>
        <p:blipFill>
          <a:blip r:embed="rId1"/>
          <a:stretch/>
        </p:blipFill>
        <p:spPr>
          <a:xfrm>
            <a:off x="241200" y="2171880"/>
            <a:ext cx="3810240" cy="30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63680" y="1828440"/>
            <a:ext cx="507996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mooths + coordinates body movements directed by other parts of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2 Cerebellar Hemispher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formation on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ovement of neck, trunk, limb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formation from Cerebral corte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430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erebellum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2590920" y="3251160"/>
            <a:ext cx="1092240" cy="1130400"/>
          </a:xfrm>
          <a:prstGeom prst="ellipse">
            <a:avLst/>
          </a:prstGeom>
          <a:noFill/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lood Brain Barrier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otects brain from blood-borne toxin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e.g. urea, food toxins, bacteria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ndothelium of brain capillaries are loaded with tight junction to decrease permeabil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Not complete protection, some things still have to get through (e.g. fat-soluble molecules can pass throug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0" name="Picture 5" descr="fig001pgc"/>
          <p:cNvPicPr/>
          <p:nvPr/>
        </p:nvPicPr>
        <p:blipFill>
          <a:blip r:embed="rId4"/>
          <a:stretch/>
        </p:blipFill>
        <p:spPr>
          <a:xfrm>
            <a:off x="4648320" y="211464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45920" y="241200"/>
            <a:ext cx="5216760" cy="620640"/>
          </a:xfrm>
          <a:prstGeom prst="rect">
            <a:avLst/>
          </a:prstGeom>
          <a:noFill/>
          <a:ln w="28440">
            <a:solidFill>
              <a:srgbClr val="00264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lood Supply to Brai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19360" y="1131840"/>
            <a:ext cx="4724280" cy="5726160"/>
          </a:xfrm>
          <a:prstGeom prst="rect">
            <a:avLst/>
          </a:prstGeom>
          <a:solidFill>
            <a:srgbClr val="ffffe9"/>
          </a:solidFill>
          <a:ln w="1908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rteries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ternal carotid arteries and branch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issues of head &amp; face, skin, muscl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iddle meningeal a. =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Boxers!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nal carotid arteries and branch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pthalmic a. = Eye &amp; Orbit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nt &amp; Middle Cerebral arts = Cerebru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ertebral arteri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osterior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Vertebrae &amp; Cervical Spinal Cord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Branches form Cerebral Arterial Circle = Anastomosi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3" name="Picture 10" descr="showimage"/>
          <p:cNvPicPr/>
          <p:nvPr/>
        </p:nvPicPr>
        <p:blipFill>
          <a:blip r:embed="rId2"/>
          <a:stretch/>
        </p:blipFill>
        <p:spPr>
          <a:xfrm>
            <a:off x="246240" y="4011480"/>
            <a:ext cx="3998880" cy="284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Picture 12" descr="showimage"/>
          <p:cNvPicPr/>
          <p:nvPr/>
        </p:nvPicPr>
        <p:blipFill>
          <a:blip r:embed="rId3"/>
          <a:stretch/>
        </p:blipFill>
        <p:spPr>
          <a:xfrm>
            <a:off x="246240" y="1177920"/>
            <a:ext cx="4005000" cy="27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lood Supply to the Brai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24240" y="1571760"/>
            <a:ext cx="3811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Vei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ural sinus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tracranial-receive blood from veins in brain, bring to Internal Jugula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nternal jugular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brai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External jugula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scalp and face (superficial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ertebral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rains cervical vertebrae, cervical spinal cord,  small neck muscl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7" name="Picture 6" descr="showimage"/>
          <p:cNvPicPr/>
          <p:nvPr/>
        </p:nvPicPr>
        <p:blipFill>
          <a:blip r:embed="rId2"/>
          <a:stretch/>
        </p:blipFill>
        <p:spPr>
          <a:xfrm>
            <a:off x="0" y="4591080"/>
            <a:ext cx="2303640" cy="22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8" name="Picture 8" descr="showimage"/>
          <p:cNvPicPr/>
          <p:nvPr/>
        </p:nvPicPr>
        <p:blipFill>
          <a:blip r:embed="rId3"/>
          <a:stretch/>
        </p:blipFill>
        <p:spPr>
          <a:xfrm>
            <a:off x="1212840" y="1557360"/>
            <a:ext cx="3673440" cy="30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3320" y="719280"/>
            <a:ext cx="337356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ranial Nerv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9372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2 Pairs: I-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umbered Anterior to Posteri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ttach to inferior surface of  brai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it brain through foramina in skul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 + II attach to Forebrain (cerebrum + diencephalon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II-XII attach to Brainstem (midbrain, pons, medulla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ly X goes beyond the head-nec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1" name="Picture 2053" descr="showimage"/>
          <p:cNvPicPr/>
          <p:nvPr/>
        </p:nvPicPr>
        <p:blipFill>
          <a:blip r:embed="rId8"/>
          <a:stretch/>
        </p:blipFill>
        <p:spPr>
          <a:xfrm>
            <a:off x="4756320" y="0"/>
            <a:ext cx="4387680" cy="33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msoA4442"/>
          <p:cNvPicPr/>
          <p:nvPr/>
        </p:nvPicPr>
        <p:blipFill>
          <a:blip r:embed="rId1"/>
          <a:stretch/>
        </p:blipFill>
        <p:spPr>
          <a:xfrm>
            <a:off x="-1219320" y="-914400"/>
            <a:ext cx="7766280" cy="1068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5334120" y="0"/>
            <a:ext cx="380988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380880" y="0"/>
            <a:ext cx="1447560" cy="75438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: 3 membranes around brain and spinal co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ade of Connective tissu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ver, Protect C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nclose, protect blood vessels supplying C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ntain CSF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3 Layer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ura Mater (extern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rachnoid Mater (middl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ia Mater (intern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2" descr="showimage"/>
          <p:cNvPicPr/>
          <p:nvPr/>
        </p:nvPicPr>
        <p:blipFill>
          <a:blip r:embed="rId4"/>
          <a:stretch/>
        </p:blipFill>
        <p:spPr>
          <a:xfrm>
            <a:off x="0" y="2498760"/>
            <a:ext cx="4645080" cy="25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Cranial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70"/>
          <p:cNvSpPr/>
          <p:nvPr/>
        </p:nvSpPr>
        <p:spPr>
          <a:xfrm>
            <a:off x="826920" y="20145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838080" y="27972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                 Olfactory            Cribiform Plate          SENSORY:  smel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72"/>
          <p:cNvSpPr/>
          <p:nvPr/>
        </p:nvSpPr>
        <p:spPr>
          <a:xfrm>
            <a:off x="795240" y="3440160"/>
            <a:ext cx="73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I               Optic                 Optic Foramen          SENSORY:  vis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84080" y="423396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II               Oculomotor       Sup. Orbital Fissure  MOTOR:  external muscles of the eye except lateral rectus and superior oblique: levator palpebrae superioris.   PARASYMPATHETIC:  sphincter of pupil and ciliary muscle of lens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mso20FFA"/>
          <p:cNvPicPr/>
          <p:nvPr/>
        </p:nvPicPr>
        <p:blipFill>
          <a:blip r:embed="rId1"/>
          <a:stretch/>
        </p:blipFill>
        <p:spPr>
          <a:xfrm>
            <a:off x="1676520" y="-1295280"/>
            <a:ext cx="7765920" cy="10680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mso777FE"/>
          <p:cNvPicPr/>
          <p:nvPr/>
        </p:nvPicPr>
        <p:blipFill>
          <a:blip r:embed="rId1"/>
          <a:stretch/>
        </p:blipFill>
        <p:spPr>
          <a:xfrm>
            <a:off x="117360" y="-2895480"/>
            <a:ext cx="9026640" cy="9753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131840" y="44604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79560" y="19810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V  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rochlear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Sup. Orbital Fissure    MOTOR:  superior oblique muscle of the ey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47880" y="28306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 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Trigemina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405080" y="334152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1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Ophthalmic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Sup. Orb. Fissure     SENSORY:  cornea, nasal mucosa, skin of f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405080" y="414828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2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Maxillary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Foramen rotundum  SENSORY:  skin of face, oral cavity, anterior two-thirds of tongue, teeth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447920" y="60199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425600" y="52578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3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Mandibular Branch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Foramen ovale   MOTOR:  muscles of mastication: SENSORY:  Skin of fac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4"/>
          <p:cNvGraphicFramePr/>
          <p:nvPr/>
        </p:nvGraphicFramePr>
        <p:xfrm>
          <a:off x="0" y="0"/>
          <a:ext cx="8305920" cy="691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30592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766440" y="49068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84080" y="19051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Abducen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Sup. Orb. Fissure      MOTOR:  lateral rectus muscle of the eye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773280" y="2917800"/>
            <a:ext cx="72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Faci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  Stylomastoid Foramen      PARASYMPATHETIC:  lacrimal, submandibular, and sublingual glands;  MOTOR:  muscles of facial expression; SENSORY: taste, anterior two-thirds of tongu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84080" y="4289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estibulocochlea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990720" y="4843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1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estibular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Int. auditory meatus     SENSORY:  equilibriu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33560" y="5562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III 2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Cochlear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Int. auditory meatus     SENSORY:  hearing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msoB3134"/>
          <p:cNvPicPr/>
          <p:nvPr/>
        </p:nvPicPr>
        <p:blipFill>
          <a:blip r:embed="rId1"/>
          <a:stretch/>
        </p:blipFill>
        <p:spPr>
          <a:xfrm>
            <a:off x="685800" y="-1447920"/>
            <a:ext cx="7997760" cy="10844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057400" y="5029200"/>
            <a:ext cx="7086600" cy="18288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057400" y="0"/>
            <a:ext cx="7086600" cy="152388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7467480" y="1523880"/>
            <a:ext cx="1676520" cy="35053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515520" y="75096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4c"/>
                </a:solidFill>
                <a:uFillTx/>
                <a:latin typeface="Times New Roman"/>
              </a:rPr>
              <a:t>Number             Name                Exit               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14360" y="1959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IX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Glossopharynge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Jugular foramen         MOTOR:  stylopharyngeus muscle;  SENSORY:  posterior one-third of tongue, taste, pharynx, branch to the carotid sinus;  PARASYMPATHETIC:  parotid glan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34880" y="322272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   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Vagus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       Jugular Foramen         SENSORY:  external meatus, pharynx, and larynx;  MOTOR:  pharynx, and larynx;  PARASYMPATHETIC:  thoracic and abdominal visce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490680" y="4473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I 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Spinal Accessory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Jug. Foramen        MOTOR:  trapezius and sternocleidomastoid musc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468360" y="556272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XII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Hypoglossal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     Hypoglossal Canal         MOTOR:  Muscles of the tongu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00040" y="-381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amina of the Cranial B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2362320"/>
          <a:ext cx="8153640" cy="42591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lfactory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lfactory N.  (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tic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tic N.  (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uperior Orbital Fissur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culomotor (III), Trochlear (IV), Ophthalmic N. (V1), Abducens N. (V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Rotundu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xillary N. (V2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Ovale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Internal Acoustic Meatus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acial N. (VII), Acoustic N. (VI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Jugular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Glossopharyngeal N. (IX), Vagus N. (X), Accessory (X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Hypoglossal Canal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Hypoglossal N. (X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tylomastoid Forame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acial N. (VI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Foramen Magnum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edulla Oblongata, Accessory N. (XI)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50"/>
          <p:cNvSpPr/>
          <p:nvPr/>
        </p:nvSpPr>
        <p:spPr>
          <a:xfrm>
            <a:off x="13716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ramin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563868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ssociated Ner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80920" y="-2289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amina of Facial B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Supraorbi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Ophthalmic N. (V1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Infraorbi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xillary N.  (V2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ental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Foramen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4c"/>
                          </a:solidFill>
                          <a:latin typeface="Arial"/>
                        </a:rPr>
                        <a:t>Mandibular N. (V3)</a:t>
                      </a: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23"/>
          <p:cNvSpPr/>
          <p:nvPr/>
        </p:nvSpPr>
        <p:spPr>
          <a:xfrm>
            <a:off x="160020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oramin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5257800" y="1600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ssociated Ner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640" y="28404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762000"/>
            <a:ext cx="9144000" cy="309564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ura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ongest, 2 Layers, Fibrous Connective Tissu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eriosteal layer (Periosteum): External/superficial lay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ningeal layer: Internal/deep lay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ayers fused  except around dural sinuses (venous blood filled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internal jugular vein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0" name="Picture 4103" descr="showimage"/>
          <p:cNvPicPr/>
          <p:nvPr/>
        </p:nvPicPr>
        <p:blipFill>
          <a:blip r:embed="rId2"/>
          <a:stretch/>
        </p:blipFill>
        <p:spPr>
          <a:xfrm>
            <a:off x="3246480" y="1773360"/>
            <a:ext cx="4191120" cy="22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Remember CN I-X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0" y="1828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</a:t>
            </a: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</a:t>
            </a:r>
            <a:r>
              <a:rPr b="0" lang="en-US" sz="80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!          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uch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nd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el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ry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ood </a:t>
            </a: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lvet!         </a:t>
            </a:r>
            <a:r>
              <a:rPr b="0" lang="en-US" sz="8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h  </a:t>
            </a:r>
            <a:r>
              <a:rPr b="0" lang="en-US" sz="80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8000" spc="-1" strike="noStrike">
                <a:solidFill>
                  <a:srgbClr val="00264c"/>
                </a:solidFill>
                <a:latin typeface="Times New Roman"/>
              </a:rPr>
              <a:t>eaven!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7"/>
          <p:cNvSpPr/>
          <p:nvPr/>
        </p:nvSpPr>
        <p:spPr>
          <a:xfrm>
            <a:off x="1562040" y="366840"/>
            <a:ext cx="6096240" cy="6577920"/>
          </a:xfrm>
          <a:prstGeom prst="rect">
            <a:avLst/>
          </a:prstGeom>
          <a:solidFill>
            <a:srgbClr val="ffffe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lfact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ptic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ulo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o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rochlea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to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rigeminal (1-3)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touc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bducens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ci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fee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estibulocochlea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very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lossopharynge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goo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gus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velve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cces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ah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ypoglossa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heave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602400" cy="893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r vs. Sensory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Sensory = A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nd nervous impulse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from sensory receptors to brain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 bring in informatio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.g. pressure, temperature, p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tor = E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nd nervous impulses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rom brain to bod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 accomplish an ac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.g. movement of a muscle, activation of a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3680" y="380880"/>
            <a:ext cx="805032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nsory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866960"/>
            <a:ext cx="9144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nsory = Affer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Visceral Sensor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sensory innervation of viscera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retch, pain, temp., chemical changes, irritation in viscer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pecial: tast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omatic Sensor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sensory innervation of outer part body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ouch, pain, pressure, vibration, temp. in skin, body wall, limb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pecial: hearing, equilibrium, vision, smel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otor Nerv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tor Nerv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Visceral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muscle in viscera + gland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nervation smooth + cardiac muscle, gland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ranchial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of pharyngeal arch m.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acial expression, pharyngeal constrictors, suprahyoid, sternocleidomastoid, trapeziu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Somatic Motor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motor innervation of skeletal muscl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nervation of skeletal muscles (except pharyngeal arch m.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3800" y="-360"/>
            <a:ext cx="6578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nemonic for CN Fun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698400"/>
            <a:ext cx="8067600" cy="6159600"/>
          </a:xfrm>
          <a:prstGeom prst="rect">
            <a:avLst/>
          </a:prstGeom>
          <a:solidFill>
            <a:srgbClr val="ffffe9"/>
          </a:solidFill>
          <a:ln w="7632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ay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rr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I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ney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IV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ut    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V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y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V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rother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V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ays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N VI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ig       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IX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rain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CN X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atter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X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st!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N XII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 = Sensory function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 = Motor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 = BOTH (Sensory and Motor functio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7080" y="1781280"/>
            <a:ext cx="8587080" cy="50605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lfactory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smell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ptic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vis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culomotor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extrinsic ey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Trochlear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extrinsic ey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r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geminal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Opthalmic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cornea, nasal mucosa, face sk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2  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Maxillary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skin of face, oral cavity, teet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Mandibular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muscles of mastic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face skin, teeth, tongue (general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617480" y="533520"/>
            <a:ext cx="3062520" cy="459720"/>
          </a:xfrm>
          <a:prstGeom prst="rect">
            <a:avLst/>
          </a:prstGeom>
          <a:noFill/>
          <a:ln w="381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anial Nerve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istribution of sensory innervation to skin of face from CN V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2900520"/>
            <a:ext cx="3473280" cy="2279520"/>
          </a:xfrm>
          <a:prstGeom prst="rect">
            <a:avLst/>
          </a:prstGeom>
          <a:solidFill>
            <a:srgbClr val="ffffe9"/>
          </a:solidFill>
          <a:ln w="57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N V = Trigemi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598bbd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598bbd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598bbd"/>
                </a:solidFill>
                <a:latin typeface="Times New Roman"/>
              </a:rPr>
              <a:t> = Opthalmic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= Maxillar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8c0b2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78c0b2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78c0b2"/>
                </a:solidFill>
                <a:latin typeface="Times New Roman"/>
              </a:rPr>
              <a:t> = Mandibula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62" name="Picture 9" descr="showimage"/>
          <p:cNvPicPr/>
          <p:nvPr/>
        </p:nvPicPr>
        <p:blipFill>
          <a:blip r:embed="rId1"/>
          <a:stretch/>
        </p:blipFill>
        <p:spPr>
          <a:xfrm>
            <a:off x="3649680" y="1782720"/>
            <a:ext cx="5292720" cy="487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1471680"/>
            <a:ext cx="9144000" cy="546552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bducens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eye abduction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acial------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part of tongue (tast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muscles of facial express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I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Vestibulocochlear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hearing, equilibri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I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Glossopharyngeal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stylopharyngeus muscl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tongue (gen &amp; taste), pharyn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Vagus-----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pharynx, laryn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------------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ensory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pharynx, larynx, abd. organ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ccessory---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trapezius, sternocleidomastoi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XI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Hypoglossal----------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-------tongue muscl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97320" y="4572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anial Nerves (continued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ummary of Functional Group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urely Sensory = I, II, VI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rimarily Motor = III, IV, VI, XI, X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ixed = V, VII, IX, 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arasympathetic Fibers = III, VII, IX, X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Division of Autonomic NS = Visceral Motor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17280"/>
            <a:ext cx="4710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Partitions: limit movement of brai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lx Cerebr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–vertical, between cerebral hemispheres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Falx Cerebell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vertical, between cerebellar hemisphe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entorium Cerebelli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–horizontal,  between cerebrum and cerebellu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Picture 5" descr="showimage"/>
          <p:cNvPicPr/>
          <p:nvPr/>
        </p:nvPicPr>
        <p:blipFill>
          <a:blip r:embed="rId1"/>
          <a:stretch/>
        </p:blipFill>
        <p:spPr>
          <a:xfrm>
            <a:off x="4381560" y="2298600"/>
            <a:ext cx="4762440" cy="324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arasympathetic Fiber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625760"/>
            <a:ext cx="9144000" cy="523224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III = Oculomot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tracts Iris (controls pupil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tracts Ciliary Muscle (controls len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VII = Facial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Salivary glands (mandibular &amp; sublingual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Lacrimal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IX = Glossopharynge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Parotid Salivary glan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N X = Vagu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vates thoracic &amp; abdominal viscer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368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Autonomic Nervous Syste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0" name="Picture 5" descr="autonomic"/>
          <p:cNvPicPr/>
          <p:nvPr/>
        </p:nvPicPr>
        <p:blipFill>
          <a:blip r:embed="rId1"/>
          <a:stretch/>
        </p:blipFill>
        <p:spPr>
          <a:xfrm>
            <a:off x="1208160" y="947880"/>
            <a:ext cx="6445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31" descr="showimage"/>
          <p:cNvPicPr/>
          <p:nvPr/>
        </p:nvPicPr>
        <p:blipFill>
          <a:blip r:embed="rId1"/>
          <a:stretch/>
        </p:blipFill>
        <p:spPr>
          <a:xfrm>
            <a:off x="3656160" y="1741320"/>
            <a:ext cx="5487840" cy="257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3504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rachnoid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iddle lay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barachnoid Spac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-between arachnoid mater and pia mater (contains most of CSF, blood vessel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rachnoid Villi-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projections of arachnoid mater through dura into superior sagittal sinus, act as valves to help CSF pass into dural sinuse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Oval 1029"/>
          <p:cNvSpPr/>
          <p:nvPr/>
        </p:nvSpPr>
        <p:spPr>
          <a:xfrm>
            <a:off x="5781600" y="2125800"/>
            <a:ext cx="1041480" cy="12826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Meninge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643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ia Mate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nermost lay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licate, highly vascula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lings directly to brain tissue, dips into convolution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0" name="Picture 1030" descr="showimage"/>
          <p:cNvPicPr/>
          <p:nvPr/>
        </p:nvPicPr>
        <p:blipFill>
          <a:blip r:embed="rId2"/>
          <a:stretch/>
        </p:blipFill>
        <p:spPr>
          <a:xfrm>
            <a:off x="3300480" y="4064040"/>
            <a:ext cx="5487840" cy="257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u3p46"/>
          <p:cNvPicPr/>
          <p:nvPr/>
        </p:nvPicPr>
        <p:blipFill>
          <a:blip r:embed="rId1"/>
          <a:stretch/>
        </p:blipFill>
        <p:spPr>
          <a:xfrm>
            <a:off x="768240" y="2438280"/>
            <a:ext cx="250848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iz…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971360" y="206856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44400" y="220968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86480" y="2554200"/>
            <a:ext cx="34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u3p46"/>
          <p:cNvPicPr/>
          <p:nvPr/>
        </p:nvPicPr>
        <p:blipFill>
          <a:blip r:embed="rId1"/>
          <a:stretch/>
        </p:blipFill>
        <p:spPr>
          <a:xfrm>
            <a:off x="768240" y="2438280"/>
            <a:ext cx="2508480" cy="3048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iz…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5080" y="1904760"/>
            <a:ext cx="381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1 – Dura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2 – Arachnoid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3 – Pia Mat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71360" y="206856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444400" y="2209680"/>
            <a:ext cx="3225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86480" y="2554200"/>
            <a:ext cx="34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19:14:14Z</dcterms:created>
  <dc:creator>Eylana Goff</dc:creator>
  <dc:description/>
  <dc:language>en-US</dc:language>
  <cp:lastModifiedBy> </cp:lastModifiedBy>
  <cp:lastPrinted>2002-03-18T22:06:58Z</cp:lastPrinted>
  <dcterms:modified xsi:type="dcterms:W3CDTF">2010-06-22T14:18:52Z</dcterms:modified>
  <cp:revision>103</cp:revision>
  <dc:subject/>
  <dc:title>Skull, Brain and Cranial Nerves</dc:title>
</cp:coreProperties>
</file>